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6858000" cy="5486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83D6-B133-4683-82AD-9C9EA8F5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5C5D2-F3FA-42FD-B732-CF8022C0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124BB-7C88-465D-8E18-FEEEE1CC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24044-3713-4390-9B43-A1262C6C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1AD94-1D91-4827-9977-9E3E3AC2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D4B23-E606-40E5-9DD8-356FD1C1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8F277-A370-48B8-B116-F188DC0B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6B1F6-77AF-4676-940A-5F363982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B6087-170C-433F-8290-6D21A4BC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E9B38-29BA-462B-BE22-F8A2DE81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AD087-F6B4-4F8E-B39C-B4ABDD35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C84BE-BF0E-4F24-9326-6FE59DA5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4F13C-5665-4EDD-AC08-CEA014B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12BE9-9B27-44C0-BD1A-12CD7E52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4C4A8-B2C6-4532-8A13-20C82B80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3B0AE-2811-4719-BA5C-2DBC948F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82A38-06EA-4AD7-9F17-4DB5365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10FB9-2357-42C4-8C0A-2A14779F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736A1-2EAD-443A-90E2-75E0850F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C2333-1F2B-4646-9759-3CEAEED9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C58E4-3442-494A-BD6A-122A1DBF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9AF2D-64F2-4503-987E-7EA9FB78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4B1B3-C5FC-4559-A86E-09F464B5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0CCCE-E2CE-4FE5-9064-F4505F9A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B850F-5868-4F99-9ED9-38F80182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E56AA-F070-4687-BD08-41193844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4D383-90E2-4659-8627-902D0D4E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2FF7A-885F-4775-AE36-0BBB1ECE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EBCFA-78EC-4F9E-83CF-4D77BFFF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437CA-8988-47F5-83CC-0096E147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9E7-7675-45F9-BC54-BA404AC2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1C561-8D3A-4085-A182-D1986902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95862-1FC6-4F1F-9827-31BF266D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98DA5-8D4E-4721-92A3-498CE7D4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30065-A8AD-4A66-AD5A-3A61B046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D56E7-9E69-491C-97FE-6FE79E1F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AFD96-E03E-4EBE-B954-10E061A0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508E1-8393-4739-B511-C4EAB3E9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998B-877C-4D5B-AD9F-B19714EC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F23F-05CC-4DB9-9BA7-77462CD0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E9150-EBE1-4235-83EC-734562BC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C5E-5740-4AAA-9391-2B57A7DD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B2A29-7AA7-4EDB-8F31-ED5F928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6DBFB-676C-4AA8-9FE9-0AA6BDB3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FE6F9-69FD-48A0-BA1D-E5920FBD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A46E-6C36-4430-BE97-BDFE63A3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D729-41D6-437C-8D3E-DA58EBA7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50D-3C60-4695-894F-C04F381B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546-D7B3-4F98-AEDC-65FA445E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EA6-B720-4CBD-A87C-943D3004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63A-5C13-4BA3-A386-B5AFFC5E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C63-1663-4875-A290-039733EA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390-46C2-4127-A423-3DADEF6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E2D-662C-43F9-93C2-A665F1F3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92A-2E13-4823-845E-5AE8B42F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BF3-5853-4579-8CF3-2373E3E7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C48-8540-4831-8B4C-0E45AC92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4747-1582-401A-911F-6D25AFB0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F082-47FA-40A5-9362-AF2041B7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54B4-50C3-4A95-B8EA-93B33D13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F3D7-E3CB-442E-8C66-06119F20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3991-5E87-49F3-8B55-9BB38D2D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3FBD-FB8F-4675-96D3-420B1FCA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F2C5-8467-441E-AE3B-D4256FCA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D5FC-C526-4712-BFE0-B4F0559D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C025-8AD8-4B84-8518-6237F615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331C-C54F-4F23-A2BB-9F566067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0D46-B83C-43B4-A3B3-96D6E34E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1921-1BDE-42F2-9283-05F1014F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87BE-717C-4940-8DFF-D82DEF2E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955F-EE1D-47E9-B02F-54A5A74C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50E8-8BD3-4DE3-884A-E26FEE4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23CA-9457-4E82-987A-3031DD00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9663-CDDE-47D1-808C-4E896BE0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D8C8-43EB-45C1-9928-013A6F4F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2031-2579-4218-A8CA-AE6DEBD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F54B-379E-4A06-A8E6-978FC75C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23E3-73E1-4613-B407-FE7D3CD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674EB-89DB-462B-9E99-18829646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45A5-2B86-4724-B069-DF241283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09CE-5870-4351-8664-1A1299FA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C1905-08D0-4894-AF69-D155085B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9377-E196-4FFE-B104-CF686DA4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E829-55A5-4E59-A228-58CFDD7B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53C77-34D2-4223-B4DA-48A72055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9294-F20D-4E75-9127-1202605E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A76F2-2494-4B2A-B28C-EC0F185C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5B3F-372A-46C0-A72E-7EF3104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9B32-28A1-4F11-99D1-62A6FD7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65FB4-9674-4720-AFE1-42D646A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0387D-A63B-46EC-BB91-C476F972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4650-8430-4423-A1E8-FEA91E2C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2352-83EE-49BA-9A90-F84EFFB3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C6FB-6732-498D-915F-B218920A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D0FAE-E36D-4565-9551-E045ECFB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9A09-5AB1-4E66-A94C-EDBCE31A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CA5FC-C645-45DA-9B57-80C8BA11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2DFD-5F8F-484A-8041-5FB04335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A407C-94A3-4827-8664-D7EDEA5A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7404-1F3F-41CB-B3A6-8783E8C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9347-E212-40B3-9202-14665E87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6CE8C-B495-4A87-BB3A-1DACF394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27669-3584-4A7D-AD19-1F7F9431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11A33-F59A-420F-A193-064B704D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56FA9-3107-4AEF-B198-D104953C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49378-98E3-40B6-8A03-2CD1C5E2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C0385-CB71-400A-BE9F-D7D1F23C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0188D-9AE1-470A-AFFF-8390098A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23020-96F4-4A6F-8075-1A73416A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EE5B-BCE2-44A5-8329-58BA2D65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98B3E-0D11-4FB1-93A0-10F8BD9E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4326B-9010-41D7-84A9-B6A2814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5B231-19B0-4519-92FD-785371F3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C18E7-9C2C-444D-9981-E45EFD1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92C13-14EE-4F38-8E9E-D7FBB05E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D3CD6-07A4-4CBD-9453-B69140AB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32C4-A48E-442E-B0C4-66AAD405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60949-1329-4E83-B14D-0C29A817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9A59D-05FA-43C2-B506-FF1CE546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14C79-9975-4237-8B64-534A9D19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FE2F5-D204-4797-8BCF-AF74FBB9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97581-4ACF-4CD0-A341-FEB9BA02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C095E-0C7D-4750-B294-DF407E0E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EAC46-9564-4E5B-B4F1-12A265F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6A450-597E-45E1-B981-8B5ADF1F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F6D5F-CC16-4702-A431-3525BF64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071EE-03F3-41AA-B03E-CF0C3C3A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05EE8-68D2-474F-B95F-AF62D132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E657E-3C82-4466-ABDC-7801CFF4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CBDBC-0A6D-41D4-BDCD-A8D3A423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ECCC2-FD86-4B09-A41C-1D7E75B1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CC7F0-CF55-4034-8FF1-AD82560D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3F19ECBE-86A9-4287-8D2B-F792D7383C0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8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9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30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0D1BE704-2A0C-4B77-8B03-6FDE4B9999A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3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3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7620C643-A679-49AA-8C49-CA71BF0B7D6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ReadyBizInvite_bkgd*.jpg"/>
          <p:cNvPicPr/>
          <p:nvPr/>
        </p:nvPicPr>
        <p:blipFill>
          <a:blip r:embed="rId3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ED6A77B0-1DD8-4CF9-ADF8-FAF511F245B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025C504A-AD0C-4A0A-B38B-EE6AB65B39D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0288D535-CFCE-4056-9A9C-E2677BFC33D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5C1379C1-F8AC-4713-8A9D-5856EC4C1CE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8E27D863-1BB6-4132-8746-D5E9E74AFD2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7A0E8FA4-F7AA-4E9C-AC53-EFD4B96D906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8FACCA58-D5B7-4AEB-8116-953D283CA0C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A379CBCE-249E-4FF3-AF59-37370BAEB13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tle 1"/>
          <p:cNvSpPr/>
          <p:nvPr/>
        </p:nvSpPr>
        <p:spPr>
          <a:xfrm>
            <a:off x="174600" y="184320"/>
            <a:ext cx="35416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elvetica Neue Light"/>
              </a:rPr>
              <a:t>[Insert Year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WORKSHOP S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Placeholder 4"/>
          <p:cNvSpPr/>
          <p:nvPr/>
        </p:nvSpPr>
        <p:spPr>
          <a:xfrm>
            <a:off x="4143240" y="1611360"/>
            <a:ext cx="2306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y Business Inland Flooding Worksho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8"/>
          <p:cNvSpPr/>
          <p:nvPr/>
        </p:nvSpPr>
        <p:spPr>
          <a:xfrm>
            <a:off x="163440" y="2070000"/>
            <a:ext cx="355284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Identify Your Ris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about business continuity, disaster response, and the cost benefit of preparing for flooding and other business interrup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Develop a Pl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preparedness and mitigation actions needed to ensure safety and business continuity. Complete assessments and begin planning for retrofit projec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Take 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how to perform preparedness and mitigation activities using Ready Busines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9"/>
          <p:cNvSpPr/>
          <p:nvPr/>
        </p:nvSpPr>
        <p:spPr>
          <a:xfrm>
            <a:off x="174600" y="1671480"/>
            <a:ext cx="35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Ready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[Insert Location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63440" y="1227240"/>
            <a:ext cx="355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000" spc="-1" strike="noStrike">
                <a:solidFill>
                  <a:srgbClr val="458626"/>
                </a:solidFill>
                <a:latin typeface="Arial"/>
              </a:rPr>
              <a:t>JOIN 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1" descr="FLASH-horizontal-tagline-RGB.jpg"/>
          <p:cNvPicPr/>
          <p:nvPr/>
        </p:nvPicPr>
        <p:blipFill>
          <a:blip r:embed="rId1"/>
          <a:stretch/>
        </p:blipFill>
        <p:spPr>
          <a:xfrm>
            <a:off x="2747880" y="4830840"/>
            <a:ext cx="1387440" cy="485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DHS_FEMA Logo horizontal.eps"/>
          <p:cNvPicPr/>
          <p:nvPr/>
        </p:nvPicPr>
        <p:blipFill>
          <a:blip r:embed="rId2"/>
          <a:stretch/>
        </p:blipFill>
        <p:spPr>
          <a:xfrm>
            <a:off x="903240" y="4905360"/>
            <a:ext cx="1258920" cy="449280"/>
          </a:xfrm>
          <a:prstGeom prst="rect">
            <a:avLst/>
          </a:prstGeom>
          <a:ln w="0">
            <a:noFill/>
          </a:ln>
        </p:spPr>
      </p:pic>
      <p:sp>
        <p:nvSpPr>
          <p:cNvPr id="521" name="Text Placeholder 4"/>
          <p:cNvSpPr/>
          <p:nvPr/>
        </p:nvSpPr>
        <p:spPr>
          <a:xfrm>
            <a:off x="4135320" y="2239920"/>
            <a:ext cx="230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Dat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:00 a.m. – 3:00 p.m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Placeholder 4"/>
          <p:cNvSpPr/>
          <p:nvPr/>
        </p:nvSpPr>
        <p:spPr>
          <a:xfrm>
            <a:off x="4135320" y="2976480"/>
            <a:ext cx="2530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Workshop Lo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ity, State Zip Cod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Placeholder 4"/>
          <p:cNvSpPr/>
          <p:nvPr/>
        </p:nvSpPr>
        <p:spPr>
          <a:xfrm>
            <a:off x="4135320" y="3897360"/>
            <a:ext cx="2530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orkshop is free, but registration is required. </a:t>
            </a: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lick her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"/>
          <p:cNvSpPr/>
          <p:nvPr/>
        </p:nvSpPr>
        <p:spPr>
          <a:xfrm>
            <a:off x="4302000" y="479268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Change out and ad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logos as need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22:44:12Z</dcterms:created>
  <dc:creator>AnnaK</dc:creator>
  <dc:description/>
  <dc:language>en-US</dc:language>
  <cp:lastModifiedBy>Sarah Chason</cp:lastModifiedBy>
  <dcterms:modified xsi:type="dcterms:W3CDTF">2017-02-10T16:53:02Z</dcterms:modified>
  <cp:revision>16</cp:revision>
  <dc:subject/>
  <dc:title>PowerPoint Presentation</dc:title>
</cp:coreProperties>
</file>